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879D-73AE-44A7-B68C-447B3AE04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2DA9-3E17-4B45-8A40-DA95F31A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3DDC-B033-44D3-BFA5-E2CB9C44F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A2DD-FE20-4E9A-9799-7AC3FAB22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77E7-023A-49AA-B463-CDFBA8BF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CCB3-4179-4F7A-95FB-4C816327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D183-5E20-43E4-A1F8-E804678A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7F1C-CD2B-4E4A-98F3-945CFF64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07BF-8142-4234-9B9F-A31783CE7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55D2-40D0-4AB0-8CD3-927D00CF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8326-5484-433F-B211-B7D1E03F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79E6-D97E-4CAD-8731-D33F2044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1229-DC25-48B3-975A-087E495F3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2.xml"/><Relationship Id="rId8" Type="http://schemas.openxmlformats.org/officeDocument/2006/relationships/slide" Target="slide14.xml"/><Relationship Id="rId9" Type="http://schemas.openxmlformats.org/officeDocument/2006/relationships/slide" Target="slide16.xml"/><Relationship Id="rId10" Type="http://schemas.openxmlformats.org/officeDocument/2006/relationships/slide" Target="slide18.xml"/><Relationship Id="rId11" Type="http://schemas.openxmlformats.org/officeDocument/2006/relationships/slide" Target="slide20.xml"/><Relationship Id="rId12" Type="http://schemas.openxmlformats.org/officeDocument/2006/relationships/slide" Target="slide22.xml"/><Relationship Id="rId13" Type="http://schemas.openxmlformats.org/officeDocument/2006/relationships/slide" Target="slide22.xml"/><Relationship Id="rId14" Type="http://schemas.openxmlformats.org/officeDocument/2006/relationships/slide" Target="slide24.xml"/><Relationship Id="rId15" Type="http://schemas.openxmlformats.org/officeDocument/2006/relationships/slide" Target="slide26.xml"/><Relationship Id="rId16" Type="http://schemas.openxmlformats.org/officeDocument/2006/relationships/slide" Target="slide28.xml"/><Relationship Id="rId17" Type="http://schemas.openxmlformats.org/officeDocument/2006/relationships/slide" Target="slide30.xml"/><Relationship Id="rId18" Type="http://schemas.openxmlformats.org/officeDocument/2006/relationships/slide" Target="slide32.xml"/><Relationship Id="rId19" Type="http://schemas.openxmlformats.org/officeDocument/2006/relationships/slide" Target="slide34.xml"/><Relationship Id="rId20" Type="http://schemas.openxmlformats.org/officeDocument/2006/relationships/slide" Target="slide36.xml"/><Relationship Id="rId21" Type="http://schemas.openxmlformats.org/officeDocument/2006/relationships/slide" Target="slide38.xml"/><Relationship Id="rId22" Type="http://schemas.openxmlformats.org/officeDocument/2006/relationships/slide" Target="slide40.xml"/><Relationship Id="rId23" Type="http://schemas.openxmlformats.org/officeDocument/2006/relationships/slide" Target="slide42.xml"/><Relationship Id="rId24" Type="http://schemas.openxmlformats.org/officeDocument/2006/relationships/slide" Target="slide44.xml"/><Relationship Id="rId25" Type="http://schemas.openxmlformats.org/officeDocument/2006/relationships/slide" Target="slide44.xml"/><Relationship Id="rId26" Type="http://schemas.openxmlformats.org/officeDocument/2006/relationships/slide" Target="slide48.xml"/><Relationship Id="rId27" Type="http://schemas.openxmlformats.org/officeDocument/2006/relationships/slide" Target="slide50.xml"/><Relationship Id="rId28" Type="http://schemas.openxmlformats.org/officeDocument/2006/relationships/slide" Target="slide2.xml"/><Relationship Id="rId2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  <a:hlinkClick r:id="rId2" action="ppaction://hlinksldjump"/>
              </a:rPr>
              <a:t>10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  <a:hlinkClick r:id="rId4" action="ppaction://hlinksldjump"/>
              </a:rPr>
              <a:t>15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6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7" action="ppaction://hlinksldjump"/>
          </p:cNvPr>
          <p:cNvSpPr/>
          <p:nvPr/>
        </p:nvSpPr>
        <p:spPr>
          <a:xfrm>
            <a:off x="1828800" y="121932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8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9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0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1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2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  <a:hlinkClick r:id="rId13" action="ppaction://hlinksldjump"/>
              </a:rPr>
              <a:t>5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4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5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6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8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9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20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1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2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3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4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5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6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7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8" action="ppaction://hlinksldjump"/>
          </p:cNvPr>
          <p:cNvSpPr/>
          <p:nvPr/>
        </p:nvSpPr>
        <p:spPr>
          <a:xfrm>
            <a:off x="0" y="121932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Water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Weather 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lou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nstr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iscellane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447920" y="2307960"/>
            <a:ext cx="62481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halkboard Bold"/>
              </a:rPr>
              <a:t>Clouds form at this stage of the water cycl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447920" y="2683800"/>
            <a:ext cx="62481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Chalkboard Bold"/>
              </a:rPr>
              <a:t>What is condensation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447920" y="1928520"/>
            <a:ext cx="62481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halkboard Bold"/>
              </a:rPr>
              <a:t>A scientist who studies and reports weather condition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447920" y="2682360"/>
            <a:ext cx="62481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Chalkboard Bold"/>
              </a:rPr>
              <a:t>Who is a meteorologist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447920" y="3276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286000" y="1143000"/>
            <a:ext cx="4724280" cy="2401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055960" y="4190400"/>
            <a:ext cx="5514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 Bold"/>
              </a:rPr>
              <a:t>Represent thi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47920" y="2683800"/>
            <a:ext cx="62481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Chalkboard Bold"/>
              </a:rPr>
              <a:t>What is a warm front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447920" y="2835000"/>
            <a:ext cx="62481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 Bold"/>
              </a:rPr>
              <a:t>Symbol represents this type of weathe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4191120" cy="2130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447920" y="271296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What is damp and cloud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447920" y="3580560"/>
            <a:ext cx="6248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 Bold"/>
              </a:rPr>
              <a:t>Represents thi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4267080" cy="1884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47920" y="2683800"/>
            <a:ext cx="62481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Chalkboard Bold"/>
              </a:rPr>
              <a:t>What is a cold front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2306160"/>
            <a:ext cx="62481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halkboard"/>
              </a:rPr>
              <a:t>The 4 main steps of a water cycl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447920" y="1929960"/>
            <a:ext cx="62481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halkboard Bold"/>
              </a:rPr>
              <a:t>They connect locations with the same temperatur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447920" y="1925280"/>
            <a:ext cx="62481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Chalkboard Bold"/>
              </a:rPr>
              <a:t>What are the black curving lines on a weather map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47920" y="2683800"/>
            <a:ext cx="62481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halkboard Bold"/>
              </a:rPr>
              <a:t>A large and billowy clou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447920" y="2682360"/>
            <a:ext cx="62481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Chalkboard Bold"/>
              </a:rPr>
              <a:t>What is cumulus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447920" y="317484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47920" y="1163520"/>
            <a:ext cx="624816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halkboard Bold"/>
              </a:rPr>
              <a:t>The type of cloud that are flat layers that form blankets low in the sk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7920" y="2683800"/>
            <a:ext cx="62481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Chalkboard Bold"/>
              </a:rPr>
              <a:t>What is stratus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447920" y="290016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2304720"/>
            <a:ext cx="62481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halkboard Bold"/>
              </a:rPr>
              <a:t>High, feathery clouds made of ice crystal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2683800"/>
            <a:ext cx="62481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Chalkboard Bold"/>
              </a:rPr>
              <a:t>What are cirrus clouds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7920" y="2685240"/>
            <a:ext cx="62481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halkboard Bold"/>
              </a:rPr>
              <a:t>These clouds bring rai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2302920"/>
            <a:ext cx="62481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Chalkboard Bold"/>
              </a:rPr>
              <a:t>What are nimbostratus clouds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447920" y="1542600"/>
            <a:ext cx="624816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Chalkboard Bold"/>
              </a:rPr>
              <a:t>What are evaporation, condensation, precipitation, and storag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2685240"/>
            <a:ext cx="62481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halkboard Bold"/>
              </a:rPr>
              <a:t>Is nicknamed “Thunderhead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2683800"/>
            <a:ext cx="62481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Chalkboard Bold"/>
              </a:rPr>
              <a:t>What is cumulonimbus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447920" y="2302920"/>
            <a:ext cx="62481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halkboard Bold"/>
              </a:rPr>
              <a:t>An instrument used to measure temperatur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447920" y="2682360"/>
            <a:ext cx="62481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Chalkboard Bold"/>
              </a:rPr>
              <a:t>What is a thermometer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600200" y="4938120"/>
            <a:ext cx="6248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halkboard Bold"/>
              </a:rPr>
              <a:t>Looks like thi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276720" y="380880"/>
            <a:ext cx="273024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47920" y="2685240"/>
            <a:ext cx="62481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Chalkboard Bold"/>
              </a:rPr>
              <a:t>What is a barometers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447920" y="1161720"/>
            <a:ext cx="624816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halkboard Bold"/>
              </a:rPr>
              <a:t>A tool that measures the amount of rain or snow that falls to the groun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447920" y="2683800"/>
            <a:ext cx="62481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Chalkboard Bold"/>
              </a:rPr>
              <a:t>What is a rain gaug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47920" y="1542960"/>
            <a:ext cx="624816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halkboard Bold"/>
              </a:rPr>
              <a:t>A device that shows the direction from which the wind is blowi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7920" y="2683800"/>
            <a:ext cx="62481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Chalkboard Bold"/>
              </a:rPr>
              <a:t>What is a wind van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447920" y="1927080"/>
            <a:ext cx="62481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halkboard Bold"/>
              </a:rPr>
              <a:t>Any form of water that falls to the Earth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447920" y="782640"/>
            <a:ext cx="624816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halkboard Bold"/>
              </a:rPr>
              <a:t>Tools we would use if the weather report says, “It is 65 degrees F, with winds from the SW at 10 mph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447920" y="1541160"/>
            <a:ext cx="624816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Chalkboard Bold"/>
              </a:rPr>
              <a:t>What are a thermometer, wind vane and an anemometer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447920" y="2301480"/>
            <a:ext cx="62481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halkboard Bold"/>
              </a:rPr>
              <a:t>Water vapor that is in the ai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447920" y="2683800"/>
            <a:ext cx="62481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Chalkboard Bold"/>
              </a:rPr>
              <a:t>What is humidity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447920" y="1927080"/>
            <a:ext cx="62481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halkboard Bold"/>
              </a:rPr>
              <a:t>A thick blanket of air that surrounds the earth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447920" y="2682360"/>
            <a:ext cx="62481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Chalkboard Bold"/>
              </a:rPr>
              <a:t>What is atmospher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447920" y="2302920"/>
            <a:ext cx="62481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halkboard Bold"/>
              </a:rPr>
              <a:t>The area where two air masses mee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47920" y="2682360"/>
            <a:ext cx="62481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Chalkboard Bold"/>
              </a:rPr>
              <a:t>What is a front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47920" y="1541160"/>
            <a:ext cx="624816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halkboard Bold"/>
              </a:rPr>
              <a:t>A huge body of air that has nearly the same temperature and humidit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447920" y="2685240"/>
            <a:ext cx="62481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Chalkboard Bold"/>
              </a:rPr>
              <a:t>What is an air mass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447920" y="2682360"/>
            <a:ext cx="62481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Chalkboard Bold"/>
              </a:rPr>
              <a:t>What is precipitation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447920" y="2304360"/>
            <a:ext cx="62481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halkboard Bold"/>
              </a:rPr>
              <a:t>The air pressure during a storm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447920" y="2685240"/>
            <a:ext cx="62481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Chalkboard Bold"/>
              </a:rPr>
              <a:t>What is a low pressur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47920" y="1928520"/>
            <a:ext cx="62481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halkboard Bold"/>
              </a:rPr>
              <a:t>This is water in the form of an invisible ga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447920" y="2682360"/>
            <a:ext cx="62481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Chalkboard Bold"/>
              </a:rPr>
              <a:t>What is water vapor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447920" y="2306160"/>
            <a:ext cx="62481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halkboard Bold"/>
              </a:rPr>
              <a:t>When liquid water changes to water vapo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47920" y="2685240"/>
            <a:ext cx="62481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Chalkboard Bold"/>
              </a:rPr>
              <a:t>What is evaporation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Kevin Butler-Grant County High School</dc:creator>
  <dc:description/>
  <dc:language>en-US</dc:language>
  <cp:lastModifiedBy>Edgewood User</cp:lastModifiedBy>
  <dcterms:modified xsi:type="dcterms:W3CDTF">2008-08-12T18:15:05Z</dcterms:modified>
  <cp:revision>45</cp:revision>
  <dc:subject/>
  <dc:title>Napoleon</dc:title>
</cp:coreProperties>
</file>